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gif" ContentType="image/gif"/>
  <Override PartName="/ppt/media/image3.gif" ContentType="image/gif"/>
  <Override PartName="/ppt/media/image7.png" ContentType="image/png"/>
  <Override PartName="/ppt/media/APPLAUSE.WAV" ContentType="audio/x-wav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AbcBulletin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Spelling Word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Week 19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4952880"/>
            <a:ext cx="7086600" cy="8251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He sled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down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the h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4419720"/>
            <a:ext cx="69343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The dog has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only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one b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952880" cy="312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343400" y="4419720"/>
            <a:ext cx="11430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419720"/>
            <a:ext cx="69343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The dog has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only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one b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09680" y="23623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mad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ove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cc33"/>
                </a:solidFill>
                <a:latin typeface="AbcPrint"/>
              </a:rPr>
              <a:t>di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33720" y="220968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d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onl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0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rint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0000"/>
                </a:solidFill>
                <a:latin typeface="AbcPrint"/>
              </a:rPr>
              <a:t>m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AbcPrint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did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AbcPrint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AbcPrint"/>
              </a:rPr>
              <a:t>on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572000"/>
            <a:ext cx="71629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The bunny 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made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a hole in the gra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4572000"/>
            <a:ext cx="144756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396216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4572000"/>
            <a:ext cx="71629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The bunny 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made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a hole in the gra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396216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343400"/>
            <a:ext cx="716256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The cat jumped 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over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the rop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334120" cy="3276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44197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4343400"/>
            <a:ext cx="716256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The cat jumped 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over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the rop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33412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4419720"/>
            <a:ext cx="73915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The girl </a:t>
            </a:r>
            <a:r>
              <a:rPr b="0" lang="en-US" sz="4800" spc="-1" strike="noStrike">
                <a:solidFill>
                  <a:srgbClr val="33cc33"/>
                </a:solidFill>
                <a:latin typeface="AbcPrint"/>
              </a:rPr>
              <a:t>did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 not open her gif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4419720"/>
            <a:ext cx="838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4419720"/>
            <a:ext cx="73915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The girl </a:t>
            </a:r>
            <a:r>
              <a:rPr b="0" lang="en-US" sz="4800" spc="-1" strike="noStrike">
                <a:solidFill>
                  <a:srgbClr val="33cc33"/>
                </a:solidFill>
                <a:latin typeface="AbcPrint"/>
              </a:rPr>
              <a:t>did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 not open her gif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32004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4876920"/>
            <a:ext cx="7086600" cy="8251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He sled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down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the hi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4876920"/>
            <a:ext cx="15242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9-02-17T13:03:23Z</dcterms:modified>
  <cp:revision>15</cp:revision>
  <dc:subject/>
  <dc:title>Guess the Covered Word</dc:title>
</cp:coreProperties>
</file>